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C11-0F20-41CF-87AC-71FD680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6A5-0CC4-4762-903B-F7FE95C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19B-70D7-4E35-BA0B-8A040D6B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A35-E6F7-42D6-9157-3EA6242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92D-FEB0-4757-AD43-3A980503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212-8236-4ED0-ADAB-4C92CC15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892-B9BE-472D-980D-058CC2E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E95-13B1-4A99-9C62-897BA6A8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970-4E8F-4217-940E-0BCA96A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00D-3872-45EB-A484-92FCE05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180-C623-42AA-A9E9-E474BF3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15C-1ECE-459B-9AEE-7B9D136B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A82-CA9C-4448-85D9-80ECE60A4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lectricity from Chemical Rea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van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Electrochemic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by separating the half equations into hal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electrons are forced to pass through an external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n apparatus is called a Galvanic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van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0" y="3580920"/>
            <a:ext cx="1371600" cy="2057760"/>
            <a:chOff x="2286000" y="3580920"/>
            <a:chExt cx="1371600" cy="2057760"/>
          </a:xfrm>
        </p:grpSpPr>
        <p:grpSp>
          <p:nvGrpSpPr>
            <p:cNvPr id="62" name=""/>
            <p:cNvGrpSpPr/>
            <p:nvPr/>
          </p:nvGrpSpPr>
          <p:grpSpPr>
            <a:xfrm>
              <a:off x="2286000" y="3580920"/>
              <a:ext cx="1371600" cy="2057760"/>
              <a:chOff x="2286000" y="3580920"/>
              <a:chExt cx="1371600" cy="2057760"/>
            </a:xfrm>
          </p:grpSpPr>
          <p:sp>
            <p:nvSpPr>
              <p:cNvPr id="63" name=""/>
              <p:cNvSpPr/>
              <p:nvPr/>
            </p:nvSpPr>
            <p:spPr>
              <a:xfrm>
                <a:off x="2286000" y="358128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6000" y="56386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657600" y="358092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86000" y="4343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486400" y="3580920"/>
            <a:ext cx="1371600" cy="2057760"/>
            <a:chOff x="5486400" y="3580920"/>
            <a:chExt cx="1371600" cy="2057760"/>
          </a:xfrm>
        </p:grpSpPr>
        <p:grpSp>
          <p:nvGrpSpPr>
            <p:cNvPr id="68" name=""/>
            <p:cNvGrpSpPr/>
            <p:nvPr/>
          </p:nvGrpSpPr>
          <p:grpSpPr>
            <a:xfrm>
              <a:off x="5486400" y="3580920"/>
              <a:ext cx="1371600" cy="2057760"/>
              <a:chOff x="5486400" y="3580920"/>
              <a:chExt cx="1371600" cy="2057760"/>
            </a:xfrm>
          </p:grpSpPr>
          <p:sp>
            <p:nvSpPr>
              <p:cNvPr id="69" name=""/>
              <p:cNvSpPr/>
              <p:nvPr/>
            </p:nvSpPr>
            <p:spPr>
              <a:xfrm>
                <a:off x="5486400" y="358128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56386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6858000" y="358092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486400" y="4343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486400" y="4343400"/>
            <a:ext cx="137160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343400"/>
            <a:ext cx="137160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4952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952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514600"/>
            <a:ext cx="7632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514600"/>
            <a:ext cx="7632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4960" y="27432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27576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8680" y="2514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89320" y="2514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429000"/>
            <a:ext cx="304920" cy="1676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429000"/>
            <a:ext cx="304560" cy="1676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124080"/>
            <a:ext cx="297180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5160" y="327672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320" y="5705640"/>
            <a:ext cx="29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Elect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5880" y="5715000"/>
            <a:ext cx="277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Elect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ATH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3760" y="21477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905120"/>
            <a:ext cx="3962160" cy="609480"/>
          </a:xfrm>
          <a:custGeom>
            <a:avLst/>
            <a:gdLst/>
            <a:ahLst/>
            <a:rect l="l" t="t" r="r" b="b"/>
            <a:pathLst>
              <a:path w="2496" h="384">
                <a:moveTo>
                  <a:pt x="0" y="384"/>
                </a:moveTo>
                <a:cubicBezTo>
                  <a:pt x="440" y="192"/>
                  <a:pt x="880" y="0"/>
                  <a:pt x="1296" y="0"/>
                </a:cubicBezTo>
                <a:cubicBezTo>
                  <a:pt x="1712" y="0"/>
                  <a:pt x="2296" y="320"/>
                  <a:pt x="2496" y="384"/>
                </a:cubicBezTo>
              </a:path>
            </a:pathLst>
          </a:custGeom>
          <a:noFill/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lectrode Potenti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ctrical potential of a galvanic cell is the ability of the cell to produce an electric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potential is measured in vo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measure the electrode potential of an isolated hal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easure the difference in in potential between two connected hal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lectrod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potential of a cell results from competition between 2 half cells for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cell with the greatest tendency to attract electrons will undergo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half cell will lose electrons and undergo OX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lectrod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duction Potential of a half cell is a measure of the tendency of the oxidant to accept electrons and so undergo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erence between the reduction potentials of the two half cells  is called the Cell Potential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lectrod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Standard Cell Potential Difference    (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cel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 is the measured cell potential difference when the concentration of each species = 1M, pressure = 1 atm and  Temp = 2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cel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oxidan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–  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redu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lectrod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Hydrogen Half cell is used as a comparative measure the reduction potentials of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E is given a value of 0.00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half cells are given a reduction potential value in comparison to this SHE by being connect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Hydrogen Electr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962520"/>
            <a:ext cx="213372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14600" y="2895480"/>
            <a:ext cx="1219320" cy="2057400"/>
            <a:chOff x="2514600" y="2895480"/>
            <a:chExt cx="1219320" cy="2057400"/>
          </a:xfrm>
        </p:grpSpPr>
        <p:sp>
          <p:nvSpPr>
            <p:cNvPr id="107" name=""/>
            <p:cNvSpPr/>
            <p:nvPr/>
          </p:nvSpPr>
          <p:spPr>
            <a:xfrm>
              <a:off x="2514600" y="3276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327636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28954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28954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5268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724280"/>
            <a:ext cx="3049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21337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438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200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960" y="6162840"/>
            <a:ext cx="28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inum elect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495680" y="5562360"/>
            <a:ext cx="76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5080" y="2438280"/>
            <a:ext cx="131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(1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181120" y="29718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7320" y="251460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 Bridg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alf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181480"/>
            <a:ext cx="21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86000" y="540972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8280" y="1828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inum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08240" y="187020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2096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Hydrogen Electr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used to measure reduction potential of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pecies accepts electrons more readily than hydrogen, its electrode potential i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pecies accepts electrons less readily than hydrogen, its electrode potential is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hemical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 that is higher on the electrochemical series will occur as it appears and will reverse the direction of the reaction that occurs lower on th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duction of electrical energy from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x reactions involve the transfer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x means that reduction and oxidation are occurring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measured by a volt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 be estimated by using electrochemical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nect Mg</a:t>
            </a:r>
            <a:r>
              <a:rPr b="0" lang="en-A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/Mg and Cl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/Cl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half cells get a potential difference of 3.7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ooking at the electrochemical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–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as an 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of 1.36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AU" sz="3200" spc="-1" strike="noStrike" baseline="30000">
                <a:solidFill>
                  <a:srgbClr val="000000"/>
                </a:solidFill>
                <a:latin typeface="Times New Roman"/>
              </a:rPr>
              <a:t>2+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+ 2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Mg has an E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of  – 2.38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potential difference can be calc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1.36 – (– 2.38) = 3.74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vanic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energy until one component is used up, then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energy and may be re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ine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ordinary zinc – carbo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oxidation (–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Zn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Zn 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oxidation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2M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 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Mn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N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cell produces about 1.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reaction reaches equilibrium its “fl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362320"/>
            <a:ext cx="2286000" cy="40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590920"/>
            <a:ext cx="198108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09680"/>
            <a:ext cx="53316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 Cap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 Zinc Case (–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61718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22860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8098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743200"/>
            <a:ext cx="1828800" cy="33526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81480" y="1981080"/>
            <a:ext cx="1371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191120" y="2895480"/>
            <a:ext cx="1600200" cy="3047760"/>
            <a:chOff x="4191120" y="2895480"/>
            <a:chExt cx="1600200" cy="3047760"/>
          </a:xfrm>
        </p:grpSpPr>
        <p:sp>
          <p:nvSpPr>
            <p:cNvPr id="158" name=""/>
            <p:cNvSpPr/>
            <p:nvPr/>
          </p:nvSpPr>
          <p:spPr>
            <a:xfrm>
              <a:off x="4191120" y="3428640"/>
              <a:ext cx="30456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4419360"/>
              <a:ext cx="3045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3962160"/>
              <a:ext cx="304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5028840"/>
              <a:ext cx="304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1120" y="5562360"/>
              <a:ext cx="3045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3400" y="2895480"/>
              <a:ext cx="304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657240"/>
              <a:ext cx="30456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647960"/>
              <a:ext cx="3045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86400" y="4190760"/>
              <a:ext cx="304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5257440"/>
              <a:ext cx="304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5790960"/>
              <a:ext cx="3045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3124080"/>
              <a:ext cx="304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860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of Carbon &amp; Manganese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304812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362320"/>
            <a:ext cx="3049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0516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9625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um Chloride &amp; Zinc Chloride Electrol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4343400"/>
            <a:ext cx="6858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3434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alin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ordinary zinc – carbo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oxidation  (–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Zn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Zn 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mediately reacts with OH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ions in the electrolyte to form zinc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Zn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+ 2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Zn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 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alin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reduction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2M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 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M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ve times the life of the dry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alin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95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assium Hydroxide Electrol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514600"/>
            <a:ext cx="25146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2666880"/>
            <a:ext cx="2209680" cy="312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819520"/>
            <a:ext cx="1752480" cy="274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971800"/>
            <a:ext cx="1447920" cy="243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514600"/>
            <a:ext cx="2514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3623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5638680"/>
            <a:ext cx="2514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124080"/>
            <a:ext cx="3049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724280" y="27432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 Cap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 Base (–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267080" y="57909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029200" y="1752480"/>
            <a:ext cx="9907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514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 outer steel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943240" y="28954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dered Z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181480" y="4038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886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or 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523880" y="4190760"/>
            <a:ext cx="304812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12408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124080"/>
            <a:ext cx="1600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4800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of Carbon &amp; Manganese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15000" y="48769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n there is a decrease in oxidation number 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s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s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ing a complex substance into a simpler form i.e. smelting iron to produce the pure metal 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on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Used in very small applications like watches, camera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rcury zinc  and  silver z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Oxidation (–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Zn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+ 2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Zn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 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on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 Reduction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epends on the type of batt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g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Hg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2Ag (s) + 2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duce an almost constant 1.3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on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3962520"/>
            <a:ext cx="3429000" cy="1371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276720"/>
            <a:ext cx="3429000" cy="685800"/>
          </a:xfrm>
          <a:custGeom>
            <a:avLst/>
            <a:gdLst/>
            <a:ahLst/>
            <a:rect l="l" t="t" r="r" b="b"/>
            <a:pathLst>
              <a:path w="2832" h="432">
                <a:moveTo>
                  <a:pt x="0" y="432"/>
                </a:moveTo>
                <a:cubicBezTo>
                  <a:pt x="484" y="216"/>
                  <a:pt x="968" y="0"/>
                  <a:pt x="1440" y="0"/>
                </a:cubicBezTo>
                <a:cubicBezTo>
                  <a:pt x="1912" y="0"/>
                  <a:pt x="2600" y="360"/>
                  <a:pt x="2832" y="432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733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 outer container of nickel or steel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3276720"/>
            <a:ext cx="213372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133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 Cap (–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25909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962520"/>
            <a:ext cx="2819160" cy="129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724280"/>
            <a:ext cx="2667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343400"/>
            <a:ext cx="1981080" cy="3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4038480"/>
            <a:ext cx="160020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nc 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 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495252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44956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3962520"/>
            <a:ext cx="1904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91320" y="4343400"/>
            <a:ext cx="7617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– Acid (Car Batt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 cadmium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e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Aci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ies     p 211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storage batteries or accu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ell produces 2 volts so typical 12 volt car battery contains 6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electrodes are lead plates separated by some porous material like card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Aci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ositive electrode is coated with Pb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Lead (IV) 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electrolyte is a solution of 4M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Aci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Oxidation (–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+ 2e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 Reduction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(s)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veral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Pb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(s)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2Pb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2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kel Cadmium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ften called Nic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lectrodes are Nickel and Cad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lectrolyte is Potass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ctions involve the hydroxides of the two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kel Cadmium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 (Oxidation)  (–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OH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d(OH)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(Reduction)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iO-OH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 (l) + e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Ni(OH)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+ OH</a:t>
            </a:r>
            <a:r>
              <a:rPr b="0" lang="en-AU" sz="24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veral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NiO-O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(l) 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d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+ Ni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ue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 of dry cells looked at so far is that they contain reactants in small amounts and when they reach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ells are then discarded, secondary cells are then rechar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ll that can be continually fed reactants would overcome this and allow for a continual supply of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re there is an increase in oxidation number  Z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s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s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 used to describe the reaction of any substance with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ue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el cells transform chemical energy  directly into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%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Program uses hydrogen and oxygen with an electrolyte of Potass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de Oxidation (–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OH 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thode Reduction 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4e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4OH</a:t>
            </a:r>
            <a:r>
              <a:rPr b="0" lang="en-AU" sz="28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veral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267080" y="2895480"/>
            <a:ext cx="609840" cy="2895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 Oxygen Fue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2895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4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2004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64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4864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895480"/>
            <a:ext cx="304560" cy="2895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895480"/>
            <a:ext cx="304560" cy="2895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410080" y="43434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3434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5715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640" y="609588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ou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32840" y="3854520"/>
            <a:ext cx="194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8862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ydrogenGas In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37960" y="28098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571640" y="30481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360" y="514656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4723920"/>
            <a:ext cx="23623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90240" y="52228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028840" y="46483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Oxidation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atoms in elements have an Oxidation  Number of zero  eg Fe, C,  Cl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a neutral molecule, the sum of the oxidation numbers are zero  eg 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a monatomic ion, the oxidation number is the same as it’s charge  Cl 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,  Na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Oxidation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xygen usually takes – 2 in compounds. In peroxides (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&amp; Ba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 it is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ydrogen takes + 1 in compounds, except in hydrides (NaH, Ca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 where it takes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Oxidation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a polyatomic ion, the sum of the oxidation numbers of its component atoms is the same as its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polyatomic molecules or ions, the, most electronegative element has a negative oxidation number and the least electronegative element has a positive oxidatio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x Half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sider the reaction when a strip of zinc is dropped in a solution of Copper Sulph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Cu 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Zn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Cu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lectrons are transferred from zinc atoms to copper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ction occurs spontaneously, that is with no external force or energy being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x Half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dox reactions consist of two half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xidation  Zn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Zn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AU" sz="3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duction  Cu </a:t>
            </a:r>
            <a:r>
              <a:rPr b="0" lang="en-AU" sz="3200" spc="-1" strike="noStrike" baseline="4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 2e</a:t>
            </a:r>
            <a:r>
              <a:rPr b="0" lang="en-AU" sz="3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Cu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t is possible to use redox reactions to produc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09:56:53Z</dcterms:created>
  <dc:creator>Stephen Fitzpatrick</dc:creator>
  <dc:description/>
  <dc:language>en-US</dc:language>
  <cp:lastModifiedBy>SFI</cp:lastModifiedBy>
  <dcterms:modified xsi:type="dcterms:W3CDTF">2002-06-27T01:41:51Z</dcterms:modified>
  <cp:revision>19</cp:revision>
  <dc:subject/>
  <dc:title>Electrochemistry</dc:title>
</cp:coreProperties>
</file>