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347-1A99-4B3E-A295-46DC91D4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475-070D-417F-B375-10F95BF5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640-5221-48DF-A01D-226543DB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A1C-D70B-4EB9-B487-415306B4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59D-D82C-4C0C-AAED-4E5C6AD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C15-6A39-4C2B-9E0C-1AD9D0D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9DB-8BA5-4AF2-9D6C-04DF31C3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EAC-3F5B-47FF-9107-CDF7EC43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3AC-CEC7-444A-8FF8-3622B45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1EA-1C84-4FD7-86AC-461043D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9C8-E2D5-405D-B2ED-5040B64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5CA-796F-4F88-8E36-6AEB503F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1EB4-FA42-45B0-A810-77B2E216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lytic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Galvanic Cell forced to operate in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s called electr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ccurs if a voltage greater than that produced by the galvanic cell is appli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flow is forced to operate in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s in each half cell will be rever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electrolytic cell, reduction always occurs at the negative electrode and oxidation at the positive electr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these cells can be used to produce metals and the halogens from their 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water is more easily readily reduced than these metal ions and more readily oxidised than the halogens these reactions cannot occur in aqueous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ite the expense, these elements can only be obtained by using their molten salts as electrolytes in electrolytic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s Cell is used to produce sodium and ch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s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 Cell is used to produce sodium and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58672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114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4876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3920" y="603576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en sodium chl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with calcium chl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11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0102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114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105520"/>
            <a:ext cx="7621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63868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722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2485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8168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495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572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3720" y="4572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724280"/>
            <a:ext cx="2286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10552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4800600"/>
            <a:ext cx="2286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510552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76720" y="548640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648320" y="342864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47242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74524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ine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895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chlorid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4267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7720" y="60199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800" y="3657600"/>
            <a:ext cx="15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lind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4267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s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dation Reaction  ANODE  (–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Cl 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e 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 Reaction CATHODE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e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Cl 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harging Seconda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ctions which deliver the energy in secondary cells are reversed when the cells are rechar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verall reactions in each cell in a car battery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harging Seconda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n Discha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b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Pb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 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2 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2Pb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n Recha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2Pb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 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b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Pb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 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2 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 Battery Discha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24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505320"/>
            <a:ext cx="3049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505320"/>
            <a:ext cx="3049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38862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 (ox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6440" y="388620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 (re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22096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32280" y="16416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1520" y="2971800"/>
            <a:ext cx="166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 co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9640" y="175248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96480" y="18288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48160" y="632448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of 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 Battery Recha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624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505320"/>
            <a:ext cx="3049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505320"/>
            <a:ext cx="3049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0" y="388620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 (re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6440" y="38862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 (ox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2280" y="16416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51520" y="2971800"/>
            <a:ext cx="166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 co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9640" y="175248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480" y="18288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42840" y="220968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2320" y="3048120"/>
            <a:ext cx="166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 co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48160" y="632448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of 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scharging  (Galvanic C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ODE (Oxid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+ 2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2 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2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2e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THODE (Re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2e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2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charging  (Electrolytic C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THODE (Re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2e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Pb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+ 2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2 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ODE (Re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Pb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2e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Electr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pl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ing of a thin layer of a metal on another metal to prevent corrosion or improv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ion of Reactive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s Sodium or Aluminium from their 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hydroxide, chlorine , 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Electr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charging of Seconda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r batteries and NiC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creasing the thickness of the surface oxide layer of aluminium 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de and Cath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DATION always occurs at the A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 always occurs at the CATH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lectrolytic cell, the polarity is decided by the way the external voltage is app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de and Cath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terminal makes the electrode it is attached to the ANODE, where oxidation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terminal makes the electrode it is attached to the CATHODE, where reduction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pl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l is coated with another to im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ce to Corr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 to be plated is connected to Negative electr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ped in solution of ions of coating 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pl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l cutlery to make it more decorative and to prevent 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s, tools and car parts to make them h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l food containers to prevent contaminat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4495680"/>
            <a:ext cx="342900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pl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191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4114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352680"/>
            <a:ext cx="15228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352680"/>
            <a:ext cx="15228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9810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133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480060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9560" y="489276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chro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77840" y="632448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of Chromium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000" y="4842000"/>
            <a:ext cx="16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80060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8160" y="29368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7520" y="3089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743200" y="3046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3120" y="297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86000"/>
            <a:ext cx="1218960" cy="106668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cubicBezTo>
                  <a:pt x="32" y="488"/>
                  <a:pt x="64" y="304"/>
                  <a:pt x="192" y="192"/>
                </a:cubicBezTo>
                <a:cubicBezTo>
                  <a:pt x="320" y="80"/>
                  <a:pt x="672" y="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2286000"/>
            <a:ext cx="990360" cy="99072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0"/>
                </a:moveTo>
                <a:cubicBezTo>
                  <a:pt x="188" y="44"/>
                  <a:pt x="376" y="88"/>
                  <a:pt x="480" y="192"/>
                </a:cubicBezTo>
                <a:cubicBezTo>
                  <a:pt x="584" y="296"/>
                  <a:pt x="600" y="544"/>
                  <a:pt x="624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334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638320" y="5334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72000" y="5638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2080" y="1701720"/>
            <a:ext cx="30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3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76520"/>
            <a:ext cx="311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3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s in Groups I and II as well as Aluminium are so easily oxidised their ores cannot be reduced by the usual chemical 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logens are strong oxidants and as such are difficult to obtain as pure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1:17:00Z</dcterms:created>
  <dc:creator>Stephen Fitzpatrick</dc:creator>
  <dc:description/>
  <dc:language>en-US</dc:language>
  <cp:lastModifiedBy>Stephen Fitzpatrick</cp:lastModifiedBy>
  <dcterms:modified xsi:type="dcterms:W3CDTF">2001-08-02T03:26:07Z</dcterms:modified>
  <cp:revision>13</cp:revision>
  <dc:subject/>
  <dc:title>Electrolytic Cells</dc:title>
</cp:coreProperties>
</file>