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AF1-E400-4AA2-A522-215AA019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3A1-5C7D-4A81-8195-F406B632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7F4-225F-4316-B694-0E501D58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9EE-3DD9-409F-9C5C-DD468340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644-2D3D-4E9A-B08F-AA2B825C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D61-811B-4F42-8344-4F46B4D1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F4E-62DE-4C84-AA50-F2F222D6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398-E1C4-4FCC-8EED-FF15A258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17D-2C0A-4AA4-8B11-7F67EF00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77F-CCE7-4D19-8C7E-106E6103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E94-BF5D-4E8B-A4D6-49AE28DF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72C-8FB5-4D6D-B62F-B4B64626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B3E3-A936-423D-8E3B-55A7260A1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700" spc="-1" strike="noStrike">
                <a:solidFill>
                  <a:srgbClr val="000000"/>
                </a:solidFill>
                <a:latin typeface="Times New Roman"/>
              </a:rPr>
              <a:t>Energy in Society</a:t>
            </a:r>
            <a:br>
              <a:rPr sz="11700"/>
            </a:b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ustion of Pe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rol is mainly composed of OC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C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"/>
              </a:rPr>
              <a:t>18(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5O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"/>
              </a:rPr>
              <a:t>2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(g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6CO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(g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8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l Fired Power S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 is bur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emical energy in coal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thermal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from coal is used to boil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rmal energy transferred  coal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am is passed through a turb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rmal energ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mechanical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l Fired Power S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ity formed from generator driven by turb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chanical energ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lectrical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inefficient transfer of energy occurs in the therm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chanical in the turb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30 –40 %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 Engine has 25%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uch Energy Do We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bodily needs is 10MJ /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person uses 1000MJ /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lk is used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estic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for 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use of energy can NOT be sustained indefini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our sources of energy are unrenew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lternative sources of energy are environmentally unsui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for 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alance the benefits of a new idea with its costs and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a Cost – Benefi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the main alternative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tangible costs and list the intangible costs of each alter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e costs with the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option where the benefits most out way th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700" spc="-1" strike="noStrike">
                <a:solidFill>
                  <a:srgbClr val="000000"/>
                </a:solidFill>
                <a:latin typeface="Times New Roman"/>
              </a:rPr>
              <a:t>Energy Sources</a:t>
            </a:r>
            <a:br>
              <a:rPr sz="11700"/>
            </a:b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s of energy available to society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87400" y="2147760"/>
          <a:ext cx="7426440" cy="46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7400" y="2147760"/>
                    <a:ext cx="7426440" cy="46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wable Energy Sourc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sil Fue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include coal, oil and natural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from primitive plants and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went complex changes over millions of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 energy is tra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verse is composed of matter and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is everything without 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things you cant feel or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xture of large molecules made from C, H, N, S and other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ar Weight  can be about 3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coal forms C content </a:t>
            </a:r>
            <a:r>
              <a:rPr b="0" lang="en-US" sz="3200" spc="-1" strike="noStrike">
                <a:solidFill>
                  <a:srgbClr val="000000"/>
                </a:solidFill>
                <a:latin typeface="Arrows2"/>
                <a:ea typeface="Arrows2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&amp;  O content </a:t>
            </a:r>
            <a:r>
              <a:rPr b="0" lang="en-US" sz="3200" spc="-1" strike="noStrike">
                <a:solidFill>
                  <a:srgbClr val="000000"/>
                </a:solidFill>
                <a:latin typeface="Arrows2"/>
                <a:ea typeface="Arrows2"/>
              </a:rPr>
              <a:t>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unt of water decreases as this occ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water content = more energy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 coal although harder to extract is more desi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on of coal bu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(g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emical energy in cola is converted into electrical energy in a power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ude oil is a mixture of hydrocarbons (alka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processed to be useful (fractional distill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amounts of alkanes vary according to location of reserve (Bass Straight oil is low on large molec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Liquidfied Petroleum Gas (LPG) is replacing petrol as fuel in veh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LPG is a mixture of propane and bu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own sides of L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Need for large fuel tanks reducing cargo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st of engine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LPG ½ price of Petrol to attract con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l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y methane (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amounts of other hydrocarb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ane (C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propane (C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r fuel for heating and coo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es 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rns for Use of Fossil Fu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ssil fuels used as raw materials for many products in chemical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e.g pharmaceuticals, plastics, fib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ssil fuels release carbon dioxide contributing to green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ulfur is present in fossil fuels and when burnt produces sulfur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is forms sulfuric acid within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quantities of heat are released when Uranium 235 is bombarded by neu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cleus is split in this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new elements are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neutrons produced go onto to collide with more uranium atoms causing a chain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Fission and 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sion is when a large atom is broken down into smaller 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at generated is used in a power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kg of uranium produces the same energy as2500 tonne of c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57200" y="3295800"/>
                <a:ext cx="76201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acc>
                      <m:accPr>
                        <m:chr m:val="⃗"/>
                      </m:accPr>
                      <m:e/>
                    </m:acc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acc>
                      <m:accPr>
                        <m:chr m:val="⃗"/>
                      </m:accPr>
                      <m:e/>
                    </m:acc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+</m:t>
                    </m:r>
                    <m:r>
                      <m:t xml:space="preserve">2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sion is when two smaller atoms join to make a larger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in the sun and in Hydrogen B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suitable for a power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81080" y="3124080"/>
                <a:ext cx="43434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  <m:acc>
                      <m:accPr>
                        <m:chr m:val="⃗"/>
                      </m:accPr>
                      <m:e/>
                    </m:acc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2</m:t>
                    </m:r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wable Energy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urces that are constantly repla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(Ther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vitational Potenti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ar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ar Energy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ly fossil fuel is created from solar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directly, its used for heating, particularly hot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for heating swimming p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generating 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icity from Solar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 by solar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effective in cloudy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area of land required with respect to electricity gene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o Electr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the energy of falling water to spin the turb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number of suitabl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al concerns with dam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 Power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eds a constant and fairly strong wind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isadvant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urbines are highly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Moving blades create some 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Electricity production depends on wind sp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Large number of turbine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dal Power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s on the rise and fall of water in response to gravitational pull of moon and sun. Need a large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es at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dal power is not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s on monthly lunar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thermal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ic action may cause super hot steam to rise to su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ed to suitable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e can extend our non renewable energy sources two 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evelop alternative energy sourtces to produce more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nserve our existing energy reserves by using less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Main Types of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e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ing energy – mov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d energy – to be converted to Kin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 of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t of energy is the JOULE  (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kilo joule (kJ) = 1000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ega joule (MJ) = 1,000,000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w of Conservation of M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a chemical reaction the mass of the reactants is equal to the mass of the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mass of a chemical reaction does not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w of Conservation of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en energy is transformed into another kind, the total energy stays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nergy is not lost or gained, its transf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During a Chemical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a chemical reaction the chemical energy inside it is released as heat, light and kinetic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Conver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one form of energy into another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ergy is normally transformed into several different ki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2T07:30:11Z</dcterms:created>
  <dc:creator>SFI</dc:creator>
  <dc:description/>
  <dc:language>en-US</dc:language>
  <cp:lastModifiedBy>SFI</cp:lastModifiedBy>
  <dcterms:modified xsi:type="dcterms:W3CDTF">2002-06-23T11:39:08Z</dcterms:modified>
  <cp:revision>12</cp:revision>
  <dc:subject/>
  <dc:title>Energy in Society </dc:title>
</cp:coreProperties>
</file>