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701-88C0-4E14-9551-78CF226C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6D7-2F79-4C6D-8AF5-175C2D07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9EF-D08D-4908-B2FA-AEAE8C04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6DE-8C71-4723-8AA6-9CA653BD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031-98A8-4A17-855A-26137A72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254-7691-4FD1-A45D-F129FE11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1F5-DBAE-489C-8516-80B05C5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62F0-A9C6-4CFE-B001-103D04D1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18C-2DE0-4BD6-A06F-ADC777AF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535-09B9-4A4B-BA72-4D03C0B3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19C-5135-414F-B3AA-E0E45B8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26F-8579-4625-8721-647C7E6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59D3-B517-4EA6-823C-BC795B94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, Acids, Est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– 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– CO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 – COOR</a:t>
            </a:r>
            <a:r>
              <a:rPr b="0" lang="en-US" sz="44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Four Carboxylic Cci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COOH                      methano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H                  ethano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H           propano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H        butano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ed for Systematic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track of the many natural and synthetic organic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international communications of chem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“common” names do not relate to structure of the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ion of  Systematic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kane or alken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nd number of functio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of functional groups on the carbon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m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lecules of the same molecular formula but have their atoms arranged in a different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ane above and Butene and above have isom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alkanes for example have isomers above chloropropane – called structural isomers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mers of C</a:t>
            </a:r>
            <a:r>
              <a:rPr b="0" lang="en-US" sz="4400" spc="-1" strike="noStrike" baseline="-1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400" spc="-1" strike="noStrike" baseline="-1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2133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––   C  ––    C  ––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10552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methyl – prop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methyl prop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600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20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604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057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09480" y="2514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1523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523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75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75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2666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133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16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981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52480" y="1981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66880" y="2590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09520" y="20574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514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876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3481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881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334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61760" y="57913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60339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724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9436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8909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048120" y="53341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57913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410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––   C  ––  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962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4114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114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81080" y="45720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mers of Butene C</a:t>
            </a:r>
            <a:r>
              <a:rPr b="0" lang="en-US" sz="4400" spc="-1" strike="noStrike" baseline="-1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400" spc="-1" strike="noStrike" baseline="-1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133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––   C  ––    C  ==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600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071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604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057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09480" y="2514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523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1523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819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2666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16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1981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52480" y="19810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9520" y="20574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14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0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45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057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10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8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09480" y="4967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3733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272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5119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40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09520" y="45100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4967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0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510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––   C   ==   C ––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but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but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5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mers of Chloroprop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2362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   ––   C   ––  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914040" y="2743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0004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743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343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   ––   C   ––  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191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91404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20004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– chloroprop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4343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- chloroprop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mers of Propan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23623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   ––   C   ––  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337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14040" y="2743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0004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743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43434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   ––   C   ––  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4191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04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0004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47242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prop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4343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ropan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le of Shape in Chemical Reactions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tructures of isomers can result in different properties and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. Starch and Glucose which are made up of long chains of glucos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ch - we can digest us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ulose we cant cellulo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066320" y="3276720"/>
            <a:ext cx="3049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143000" y="52574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533412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666880" y="3276720"/>
            <a:ext cx="38124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3880" y="3124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362320" y="3200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5105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914400" y="31240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8072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79132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752480" y="54100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286000" y="3200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124080" y="28195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15200" y="5334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276720"/>
            <a:ext cx="30456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095880" y="52574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53341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620120" y="3276720"/>
            <a:ext cx="3808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124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15200" y="3200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105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866920" y="31240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57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5328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933960" y="3657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5328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5791320"/>
            <a:ext cx="13716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705360" y="54100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38880" y="3200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076960" y="2819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1447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152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group of atoms that give a characteristic set of properties to a molecule containing that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of the hydrogen atoms attached to a carbon atom is replaced by another atom or group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xamples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 Chloroetha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2057400"/>
            <a:ext cx="68580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Cl 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HCl 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1752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505320"/>
            <a:ext cx="6400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ne Cl atom replaces, (or substitutes) an H atom in the ethane molec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 example of a substitut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 Ethano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2057400"/>
            <a:ext cx="80010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Cl  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–OH 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3505320"/>
            <a:ext cx="7467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ne OH group  replaces, (or substitutes) an Cl atom in the chloroethane molecule. Sodium Hydroxide solution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nother example of a substitut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Ethanoic Acid (Vinegar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ction with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atural reaction in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ction with an acidified cataly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sed in industria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H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3124080"/>
            <a:ext cx="11430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400" spc="-1" strike="noStrike" baseline="-10000">
                <a:solidFill>
                  <a:srgbClr val="000000"/>
                </a:solidFill>
                <a:latin typeface="Times New Roman"/>
              </a:rPr>
              <a:t>2(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715000"/>
            <a:ext cx="13716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AU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AU" sz="20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4861080"/>
            <a:ext cx="2362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en-AU" sz="20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20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or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AU" sz="20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AU" sz="2000" spc="-1" strike="noStrike" baseline="-1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000" spc="-1" strike="noStrike" baseline="30000">
                <a:solidFill>
                  <a:srgbClr val="000000"/>
                </a:solidFill>
                <a:latin typeface="Times New Roman"/>
              </a:rPr>
              <a:t>2–</a:t>
            </a:r>
            <a:r>
              <a:rPr b="0" lang="en-AU" sz="2000" spc="-1" strike="noStrike" baseline="-10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oup of organic compounds responsible for some of the natural and synthetic flavours ./ sm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d by adding an alcohol and a carboxyl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condensation reaction – a reaction where water i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Preparation of Esters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(Esterfic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3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 – O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765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0492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3581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Arrowgif" descr=""/>
          <p:cNvPicPr/>
          <p:nvPr/>
        </p:nvPicPr>
        <p:blipFill>
          <a:blip r:embed="rId1"/>
          <a:stretch/>
        </p:blipFill>
        <p:spPr>
          <a:xfrm>
            <a:off x="3900600" y="3349800"/>
            <a:ext cx="1204920" cy="3078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4864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19920" y="3200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199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7150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581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7220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2743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43800" y="3200400"/>
            <a:ext cx="12952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amp; R’  are hydrocarbo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Ethyl ethano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monly called Ethyl ace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ently heat a mixture of ethanol and ethanoic acid with a trace of sulfur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OH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O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AU" sz="2800" spc="-1" strike="noStrike" baseline="-10000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3505320"/>
            <a:ext cx="2209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4(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594360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5943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33160" y="55627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56386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5334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32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594360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6095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718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590920" y="56386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5638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8954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1480" y="594360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86400" y="5562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56386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0" y="5257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586728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168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705720" y="55627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920" y="5562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010280" y="56386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Arrowgif" descr=""/>
          <p:cNvPicPr/>
          <p:nvPr/>
        </p:nvPicPr>
        <p:blipFill>
          <a:blip r:embed="rId1"/>
          <a:stretch/>
        </p:blipFill>
        <p:spPr>
          <a:xfrm>
            <a:off x="3809880" y="5394240"/>
            <a:ext cx="1219320" cy="2444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809880" y="5029200"/>
            <a:ext cx="11430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181480"/>
            <a:ext cx="12956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Ethyl ethano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3160" y="3809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04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288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048120" y="3886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352680" y="39625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Ethyl ethano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33160" y="3809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1932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290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048120" y="3886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52680" y="39625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388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44197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971800" y="4419720"/>
            <a:ext cx="7632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Ethyl ethano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14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33160" y="3809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88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988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68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048120" y="3886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52680" y="39625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2388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4025880"/>
            <a:ext cx="1295280" cy="393840"/>
          </a:xfrm>
          <a:custGeom>
            <a:avLst/>
            <a:gdLst/>
            <a:ahLst/>
            <a:rect l="l" t="t" r="r" b="b"/>
            <a:pathLst>
              <a:path w="816" h="248">
                <a:moveTo>
                  <a:pt x="0" y="248"/>
                </a:moveTo>
                <a:cubicBezTo>
                  <a:pt x="172" y="132"/>
                  <a:pt x="344" y="16"/>
                  <a:pt x="480" y="8"/>
                </a:cubicBezTo>
                <a:cubicBezTo>
                  <a:pt x="616" y="0"/>
                  <a:pt x="760" y="160"/>
                  <a:pt x="816" y="2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6095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 Functiona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95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7339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Ethyl ethano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60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33160" y="38098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004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2004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909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048120" y="3886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352680" y="39625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19112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67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672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486400" y="38098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72200" y="3886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4114800"/>
            <a:ext cx="9144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0080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4267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705720" y="3809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62920" y="3809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010280" y="3886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7339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8520" y="5334120"/>
            <a:ext cx="17524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 E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irst part of the name comes from the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econd part comes from the carboxyl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panol added to Butano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ives Propyl Butanono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e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copolymer made from alcohol and carboxylic mon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alcohol has two hydroxy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acid has two carboxy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monomers join in a condensation reaction to form polyester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olecules held together with dispersion forces between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P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Ethylene Terephtha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most common poly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ade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erephthalic ac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thylene gly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P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Ethylene Terephtha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7800" y="2666880"/>
            <a:ext cx="30708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– 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O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666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–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– O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294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38680" y="2590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91320" y="2666880"/>
            <a:ext cx="38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244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ylene gly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148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rephtha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P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Ethylene Terephtha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7800" y="2666880"/>
            <a:ext cx="307080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CH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CH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812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2666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–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– O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9528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8680" y="25909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1320" y="2666880"/>
            <a:ext cx="38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2448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055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81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816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" y="3200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ylene gly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rephtha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33920" y="3124080"/>
            <a:ext cx="0" cy="1524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541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–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668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–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4800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6688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76520" y="5334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28800" y="5410080"/>
            <a:ext cx="3808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623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30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1480" y="541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–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5410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– 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43600" y="4800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0120" y="4800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629400" y="5334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81680" y="5410080"/>
            <a:ext cx="3812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1520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58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72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724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48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21520" y="5410080"/>
            <a:ext cx="211644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CH</a:t>
            </a:r>
            <a:r>
              <a:rPr b="0" lang="en-US" sz="2400" spc="-1" strike="noStrike" baseline="-1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–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848720" y="6095880"/>
            <a:ext cx="12952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6172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olyethylene terephtha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xy Functiona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2895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7339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xy Functiona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32767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43117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6002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40384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343400"/>
            <a:ext cx="99072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19520" y="2590560"/>
            <a:ext cx="1218960" cy="99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971800" y="2743200"/>
            <a:ext cx="121932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agment of an alkane that substitutes for a removed hydrogen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10 Alkyl Groups (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         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  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prop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but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pent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   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ex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 hept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 oct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 non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 dec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Four Chloroalkane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                       chlorometh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                chloroeth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             1–chloropro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AU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             1– chlorobu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Four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                        m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                 eth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             1–prop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             1–butan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6T12:31:08Z</dcterms:created>
  <dc:creator>SFI</dc:creator>
  <dc:description/>
  <dc:language>en-US</dc:language>
  <cp:lastModifiedBy>SFI</cp:lastModifiedBy>
  <dcterms:modified xsi:type="dcterms:W3CDTF">2002-05-03T02:31:57Z</dcterms:modified>
  <cp:revision>25</cp:revision>
  <dc:subject/>
  <dc:title>ALCOHOLS, ACIDS, ESTERS</dc:title>
</cp:coreProperties>
</file>