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306-3B7C-4259-895B-55EB7F5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EE0-108F-41EE-B480-D61B8A14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5C3-7529-4DAA-977B-54092BE0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D52-3ED8-40DB-B6FB-D1A7AFB4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65D-8966-432F-8767-C645FA83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A93-4523-49F8-9482-F8447E2E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70F-E6B5-4B23-8BFF-D44B683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5FD-B0A1-48F1-963D-CC59DE1B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ABC-BAF5-4EAC-B750-7836560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1FC-585D-48D8-8F39-BEF73A0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128-D039-4746-A51F-1B119ED0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3CE-9670-4ACE-B240-9102EE70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D1CD-338C-45E9-99A7-D67F9854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hemical Bond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between all particles but generally too weak to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 together molecules in non – polar molecular sub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substances tend to be weak and have low 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s increase in strength as number of electrons in molecule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ole – Dipole At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between atoms which have covalent bonding where the electron drawing power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negative and positive charges created on the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5181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H – 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4724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51055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324480" y="510516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56386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800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4648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5105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705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ole – Dipole At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arrange themselves so oppositely charged ends of molecules are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pole – dipole moments containing an Hydrogen atom bonded to a highly electronegativ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eg flourine, nitrogen,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onger than a usual dipole – dipole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ater has a higher MP / BP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 – Dipole mo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between an ion and a polar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that require &gt; 100 kJ mo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that require &lt; 100 kJ mo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re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ong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ll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metallic elements and all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3D lattice of positive charged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electrons from outer shells from metal  “Sea of Electr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attraction between cations and electrons hold the lattic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compounds formed between a metal and a non – me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s are transferred from the metal to the non – metal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 becomes a positive ion (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Metal becomes a negative ion (An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gular 3D lattice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tion is surrounded by a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ion is surrounded by 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electrostatic charges between the cations and anions hold the lattic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compounds containing non metallic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s share outer shell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atoms get a full outer shell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ubstances form 3D lattices, these are very hard and have high 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alent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ubstances form smaller clusters of atoms called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 inside the molecule are strong, the bonds between molecules are w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ar substances hence are soft and easily m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ole – Dipole mo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 – dipole mo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4:15:40Z</dcterms:created>
  <dc:creator>SFI</dc:creator>
  <dc:description/>
  <dc:language>en-US</dc:language>
  <cp:lastModifiedBy>SFI</cp:lastModifiedBy>
  <dcterms:modified xsi:type="dcterms:W3CDTF">2002-05-03T02:33:03Z</dcterms:modified>
  <cp:revision>11</cp:revision>
  <dc:subject/>
  <dc:title>Chemical Bonding</dc:title>
</cp:coreProperties>
</file>