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F6A-F627-4DD4-B2FB-3D4F74D9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C7F-D1B3-4B9E-B493-403BB84E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9D8-9613-4951-8335-E3987BE8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54F-1F62-4582-A73C-E44A180A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04E-780F-441E-B2FE-1667E9AB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3F57-A07C-4B89-8E53-87E66FFD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D65-A41D-4A75-8E3C-879A83A5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1BE-8A59-48E2-B28F-568EBD9F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4FD-A8DB-451B-A7CE-E4B70066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7C4-B0FD-44EE-877A-5C43710F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D0FA-C7CE-4CEE-ABCC-23100BF3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F5D-8CAB-41E6-83F0-8FFD13E8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AB38-54CF-41D1-A693-3C63970D0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arbon Chemistr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8108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66688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– CH 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 – 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43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50532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353520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3200400"/>
            <a:ext cx="0" cy="380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343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The longest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8108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66688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– CH 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 – 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1905120"/>
            <a:ext cx="243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50532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353520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3200400"/>
            <a:ext cx="0" cy="380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343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The longest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1219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p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5410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mber the carbon a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8108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66688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– CH 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 – 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1905120"/>
            <a:ext cx="243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50532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353520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3200400"/>
            <a:ext cx="0" cy="380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1219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p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5410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and name the side ch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98108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66688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– CH 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 – 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1905120"/>
            <a:ext cx="243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350532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353520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3200400"/>
            <a:ext cx="0" cy="380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20040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1219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p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5410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and name the side ch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38862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267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ethy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752480" y="3962520"/>
            <a:ext cx="533520" cy="3045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8108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266688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– CH 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 – 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1905120"/>
            <a:ext cx="243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50532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53520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3200400"/>
            <a:ext cx="0" cy="380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320040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219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– methyl - hep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410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and name the side ch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8862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8108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266688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– CH 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 – 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1905120"/>
            <a:ext cx="243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350532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353520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3200400"/>
            <a:ext cx="0" cy="380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20040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1219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– methyl - hep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5410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and name the side ch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38862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1828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ethy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400440" y="2209680"/>
            <a:ext cx="60948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98108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– CH 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 – 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1905120"/>
            <a:ext cx="243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350532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353520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3200400"/>
            <a:ext cx="0" cy="380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320040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12193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5 – dimethyl - hep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5410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and name the side ch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8862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98108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266688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– CH 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 – 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1905120"/>
            <a:ext cx="243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50532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53520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3200400"/>
            <a:ext cx="0" cy="380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320040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12193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5 – dimethyl - hep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5410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and name the side ch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485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8862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thy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876560" y="2133720"/>
            <a:ext cx="6858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98108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266688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– CH 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 – 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1905120"/>
            <a:ext cx="243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350532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353520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4120" y="3200400"/>
            <a:ext cx="0" cy="380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320040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1219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5 – dimethyl – 4 – ethyl – hep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055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1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38862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266688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– CH 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 – 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905120"/>
            <a:ext cx="243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350532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353520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3200400"/>
            <a:ext cx="0" cy="380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320" y="320040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219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5 – dimethyl – 4 – ethyl – hep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78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38862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51814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s on the C atoms are rever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bon Chem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of all known molecules contain a carbon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all these molecules are found in living 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of carbon containing compounds is called Organic Chem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98108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66688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– CH 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 – 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1905120"/>
            <a:ext cx="243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350532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33720" y="353520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3200400"/>
            <a:ext cx="0" cy="380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62320" y="320040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1219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5 – dimethyl – 4 – ethyl – hep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578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574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38862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1814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s on the C atoms are rever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98108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266688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– CH 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 – 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71800" y="1905120"/>
            <a:ext cx="243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350532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53520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4120" y="3200400"/>
            <a:ext cx="0" cy="380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320040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1219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6 – dimethyl – 4 – ethyl – hep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485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91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38862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51814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be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98108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266688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 – CH 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 – 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1905120"/>
            <a:ext cx="243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350532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– CH</a:t>
            </a:r>
            <a:r>
              <a:rPr b="0" lang="en-US" sz="3200" spc="-1" strike="noStrike" baseline="-10000">
                <a:solidFill>
                  <a:srgbClr val="cc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33720" y="353520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4120" y="3200400"/>
            <a:ext cx="0" cy="3808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62320" y="3200400"/>
            <a:ext cx="0" cy="3808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5867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6 – dimethyl – 4 – ethyl – hep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055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38862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2670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names are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5135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5 – dimethyl – 4 – ethyl – hep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en a hydrogen atom is replaced in an alkane by another a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three to be considered this year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l          chlor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OH        hydroxy or alcoh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OH   carboxy or carbox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Carbon Forms Large Number of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atoms can form bonds with many other Carbon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ds between C atoms can be single, double or tr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es can be linear chains or have bra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number of carbon atoms can form many different arrang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Carbon Forms Large Number of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ecules can even be cyclic, especially if there are 6 carbon atoms to form a 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atoms can form bonds with most other atoms, including met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ing Organic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is determined by the LONGEST chain of carbon atoms that it cont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difficult to find at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1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me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10000">
                <a:solidFill>
                  <a:srgbClr val="000000"/>
                </a:solidFill>
                <a:latin typeface="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e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10000">
                <a:solidFill>
                  <a:srgbClr val="000000"/>
                </a:solidFill>
                <a:latin typeface="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pr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10000">
                <a:solidFill>
                  <a:srgbClr val="000000"/>
                </a:solidFill>
                <a:latin typeface="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10000">
                <a:solidFill>
                  <a:srgbClr val="000000"/>
                </a:solidFill>
                <a:latin typeface="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p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4000" spc="-1" strike="noStrike" baseline="-10000">
                <a:solidFill>
                  <a:srgbClr val="000000"/>
                </a:solidFill>
                <a:latin typeface=""/>
              </a:rPr>
              <a:t>6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= h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4000" spc="-1" strike="noStrike" baseline="-10000">
                <a:solidFill>
                  <a:srgbClr val="000000"/>
                </a:solidFill>
                <a:latin typeface=""/>
              </a:rPr>
              <a:t>7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= he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4000" spc="-1" strike="noStrike" baseline="-10000">
                <a:solidFill>
                  <a:srgbClr val="000000"/>
                </a:solidFill>
                <a:latin typeface=""/>
              </a:rPr>
              <a:t>8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= o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4000" spc="-1" strike="noStrike" baseline="-10000">
                <a:solidFill>
                  <a:srgbClr val="000000"/>
                </a:solidFill>
                <a:latin typeface=""/>
              </a:rPr>
              <a:t>9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= n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4000" spc="-1" strike="noStrike" baseline="-10000">
                <a:solidFill>
                  <a:srgbClr val="000000"/>
                </a:solidFill>
                <a:latin typeface=""/>
              </a:rPr>
              <a:t>10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= d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4000" spc="-1" strike="noStrike" baseline="-1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= methy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4000" spc="-1" strike="noStrike" baseline="-10000">
                <a:solidFill>
                  <a:srgbClr val="000000"/>
                </a:solidFill>
                <a:latin typeface=""/>
              </a:rPr>
              <a:t>2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= ethy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4000" spc="-1" strike="noStrike" baseline="-10000">
                <a:solidFill>
                  <a:srgbClr val="000000"/>
                </a:solidFill>
                <a:latin typeface=""/>
              </a:rPr>
              <a:t>3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= propy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4000" spc="-1" strike="noStrike" baseline="-10000">
                <a:solidFill>
                  <a:srgbClr val="000000"/>
                </a:solidFill>
                <a:latin typeface=""/>
              </a:rPr>
              <a:t>4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= buty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4000" spc="-1" strike="noStrike" baseline="-10000">
                <a:solidFill>
                  <a:srgbClr val="000000"/>
                </a:solidFill>
                <a:latin typeface=""/>
              </a:rPr>
              <a:t>5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= penty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4000" spc="-1" strike="noStrike" baseline="-10000">
                <a:solidFill>
                  <a:srgbClr val="000000"/>
                </a:solidFill>
                <a:latin typeface=""/>
              </a:rPr>
              <a:t>6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= hexy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4000" spc="-1" strike="noStrike" baseline="-10000">
                <a:solidFill>
                  <a:srgbClr val="000000"/>
                </a:solidFill>
                <a:latin typeface=""/>
              </a:rPr>
              <a:t>7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= hepty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4000" spc="-1" strike="noStrike" baseline="-10000">
                <a:solidFill>
                  <a:srgbClr val="000000"/>
                </a:solidFill>
                <a:latin typeface=""/>
              </a:rPr>
              <a:t>8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= octy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4000" spc="-1" strike="noStrike" baseline="-10000">
                <a:solidFill>
                  <a:srgbClr val="000000"/>
                </a:solidFill>
                <a:latin typeface=""/>
              </a:rPr>
              <a:t>9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= nony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AU" sz="4000" spc="-1" strike="noStrike" baseline="-10000">
                <a:solidFill>
                  <a:srgbClr val="000000"/>
                </a:solidFill>
                <a:latin typeface=""/>
              </a:rPr>
              <a:t>10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= decy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266688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CH – CH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1905120"/>
            <a:ext cx="243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50532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353520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81080" y="30492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me this molec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666880"/>
            <a:ext cx="685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CH – CH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1905120"/>
            <a:ext cx="243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50532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3535200"/>
            <a:ext cx="137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5410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We need to find the longest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2:29:40Z</dcterms:created>
  <dc:creator>SFI</dc:creator>
  <dc:description/>
  <dc:language>en-US</dc:language>
  <cp:lastModifiedBy>SFI</cp:lastModifiedBy>
  <dcterms:modified xsi:type="dcterms:W3CDTF">2002-04-29T00:20:00Z</dcterms:modified>
  <cp:revision>5</cp:revision>
  <dc:subject/>
  <dc:title>Carbon Chemistry</dc:title>
</cp:coreProperties>
</file>