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579-F507-4791-89F6-B2318B49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2D3-560C-475C-B89B-EA7AA29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DD0-DD5E-4F73-8B2D-90571AD2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CF6-2153-4369-BDFD-7A8D672D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BEE-F93C-409D-9BC1-4D22456B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BD8-CB13-4E4E-84DE-A89DF165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D00-D71F-409C-9A08-1D59AD14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2C5-8E17-4248-92DD-807E34F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D5C-D33D-4CAD-857A-07AA7BB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624-D3F6-442D-92D7-CADA329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2FD-4391-4351-88A8-4E17126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D57-314F-4FA9-B06B-6B6CED8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18D-7B9B-4CFA-AD89-18A96960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971440"/>
            <a:ext cx="78483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hemical Industr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ufacturing process to be profitable, raw products must be converted to products quickly and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n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ction rate is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roportion of reactants are converted to products at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ining a Fas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concentrations / pre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surface area of sol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 cataly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ining High Equilibrium Y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s depend on relative numbers of reactants and products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temp for exotherm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temp for endothermic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 of excess rea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product as it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se may influence the choi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yst – a less expensive one may be preferred to a more effective and expensiv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– high pressure vessels are costly to build and mai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– fuel costs rise as temperatures 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 of reactant in excess – the cheaper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building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dis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ing Reactions in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in the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amount of reactants give fixed amount of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Flow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ants are continually mixed providing a constant supply of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Ten Chemica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l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ulphuric acid (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itrogen (N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xygen (O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thene (C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ime (Ca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mmonia (N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osphoric acid (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dium Hydroxide (NaO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pene (C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lorine (Cl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stralian Chemical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523880"/>
          <a:ext cx="868680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stralian Chemical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nthetic resins &amp; Rubbe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ugs (pharmaceticals &amp; Vetinary Prod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nthetic detergents &amp; soap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ial gases &amp; Organic chemical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rtiliser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organic Industrial chemical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s &amp; Varni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etics &amp; Toile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ic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hemical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of Australian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 Bay – N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na West / West Footscray – V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winana -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 of raw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 and cost of transporting these raw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imity of markets for the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energy used in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and availability of appropriate labour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mportant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and suitability of land for th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 and difficulty of disposing of any waste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sion of any government concessions such as tax rebates or other ince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ocial, political and environment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/ Soci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awareness of public in environmental impact of industrial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 plant effects the society it is buil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centage of Product produced compared to R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reactants to products is rarely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t of completion of reaction is determ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6:23:54Z</dcterms:created>
  <dc:creator>SFI</dc:creator>
  <dc:description/>
  <dc:language>en-US</dc:language>
  <cp:lastModifiedBy>SFI</cp:lastModifiedBy>
  <dcterms:modified xsi:type="dcterms:W3CDTF">2002-04-26T02:35:33Z</dcterms:modified>
  <cp:revision>12</cp:revision>
  <dc:subject/>
  <dc:title>Chemical Industry</dc:title>
</cp:coreProperties>
</file>