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4E5F-B38E-48E4-8D1F-192B778C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6C9-89A1-4D2B-8B1B-E8B26F71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8B0-4C59-4CB0-B1AA-212A89FE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52D8-241A-4182-9B30-ECF33601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442-B5EE-4EDA-9AC3-57FB7520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921A-5EE3-41DD-9F4A-A53AC1E9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F645-7C3A-405D-9A5D-782771E2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B9D5-F772-44BE-8D1F-C0313667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665C-2767-4C20-B576-31C10A60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4EB-0309-4ABB-B816-705C0137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34A-610A-4EA4-BA45-57A2DEDC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1A8B-5478-4DC7-B48B-E4C0BC48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FE15-7AFC-4C77-B07D-A729F4138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ment of Elect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onisation ener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rther evidence concerning the arrangement of electrons in atoms was obtained by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ng the values of the successive ionisation energies of various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onisation energy of an element is the minimum energy required to remove an electron from the ground state (lowest possible energy state) of an atom' in the gas ph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onisation ener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the number of ionisation energies for an element is equal to its atomic numb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note that the amount of energy required to remove successive electrons from an atom increases in a particular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n Shel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measurements suggested that electrons in atoms are arranged in different energy levels or shel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hell can accomodate only a certain number of electr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ergy associated with each shell increases as the distance from the nucleus incre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 Shel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3880" y="2031840"/>
          <a:ext cx="6096240" cy="43308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ll 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imum number of 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n Sh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, the maximum number of electrons allowed per shell is 2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re n is the shell number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rn Atomic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quantum mechanical or wave mechanical model of the atom was developed during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1920s and 1930s principally by Erwin Schrodinger and Werner Heisenber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based on the mathematical interpretation of the behaviour of small particles such as the electr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rn Atomic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incipal featur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ly all the mass of the atom is concentrated in a very small central nucleus consisting of protons and neu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lectrons behave like clouds of negative charge and move in regions of space around the nucleus called orbit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s within an atom occupy different energy levels which correspond to different regions of space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rn Atomic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ain energy level is called a shell and has a principal quantum number, 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hell is further divided into subshells or sub‑energy lev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rbitals in a given shell have similar energies but may not be all of the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ubshell has its own unique set of orbit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ment of electrons in 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lectronic configuration (or arrangement) of an element describes how the electrons of its atoms are distributed into shells, subshells and orbita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normally refers to atoms in the ground state or lowest possible energy sta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tom is said to be in an excited state if one or more of its electrons are not in their ground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ment of electrons in 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s in their ground states occupy orbitals in order of increasing orbital energy lev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al quantum (shell) number (n) defines the main energy level. The shell is known by this number (n = 1,2,3,4 ... ) or by the letters K, L, M, N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hell can accommodate a maximum of 2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ec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oscopy and the Bohr atom (191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oscopy, the study of the light emitted or absorbed by substances, has made a significant contribution towards our current understanding of atomic stru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mission spectrum of hydrogen can be observed by passing an electric current through a sample of hydrogen g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viewed through a spectroscope it consists of a series of coloured lines against a black backg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ment of electrons in 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hells are described by the letters s, p, d and f each of which has a characteristic shape and a different energ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otal number of orbitals in a shell is given by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mber of different types of subshell within a shell is given by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ment of electrons in 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may be more than one orbital per subshell type. There is only one s‑orbital but there can be three p‑orbitals, five d‑orbitals and seven f‑orbi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orbital cannot accommodate more than two electrons. It can contain 0, 1 or 2 electrons ‑ this is known as the Pauli Exclusion Princi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hell energy levels increase as follows: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Geneva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 &lt; 2s &lt; 2p &lt; 3s &lt; 3p &lt; 4s &lt; 3d &lt; 4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ment of electrons in 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 the 3d subshell is higher in energy than the 4s subshel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overlapping of subshells occurs more often as their energies incr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s occupy subshells in the order shown ab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ectron configuration for a hydrogen atom is its ground state is represented th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05160" y="5800680"/>
            <a:ext cx="9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troscopy and the Bohr atom (191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therford's nuclear atom helped to explain the basis of the Periodic Table but it appeared to conflict with basic laws of physic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 the orbiting electrons fall to emit electromagnetic radi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 they not lose energy and spiral into the nucle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es the emission spectrum of hydrogen exhibit light of specific energies on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troscopy and the Bohr atom (1913) 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els Bohr suggested a model for hydrogen atom which accounted for these anomalies and the observed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used an idea put forward by Max Planck and Albert Einstein in which electromagnetic radiation (e.g.light) consists of a stream of very small packets or quanta of energy called phot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photons have properties which enable them to behave like particles and like wa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troscopy and the Bohr atom (191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line in the emission spectrum represents a specific amount of energy emitted by the hydrogen a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lectron is able to move only in certain fixed orbits or energy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in one of these fixed orbits the energy of the electron does not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electron moves into a higher energy level (further away from th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us) a fixed amount of energy is abso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troscopy and the Bohr atom (191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electron moves to a lower energy level (closer to the nucleus) a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amount of energy is released (as photons) which appears as a sharp line in emission spectr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electron can only change energy levels by specific amount it does not spiral into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line in the emission spectrum of hydrogen represents an electron transition from a higher energy level to a lower energy lev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troscopy and the Bohr atom (191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ergy of the emitted photons corresponds to the difference in energy between the two lev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ideas were extended and modified to account for the observed emission spectra of more complex ato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Bohr's ideas to explain the absorption spectrum of hydro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sorption spectrum of hydrogen appears as black lines against a coloured backgrou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obtained when a beam of white light is passed through an atomised sample of hydrogen gas and then through a pris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lectrons in the hydrogen atoms become excited by absorbing energy in the form of photons of particular energ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Bohr's ideas to explain the absorption spectrum of hydro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lack line corresponds to an electron transition from a lower energy level to a higher energy leve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ergy of the absorbed photons corresponds to the difference in energy between the two leve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 the effect is a series of black lines against a coloured backgr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22:44:24Z</dcterms:created>
  <dc:creator>Stephen Fitzpatrick</dc:creator>
  <dc:description/>
  <dc:language>en-US</dc:language>
  <cp:lastModifiedBy>SFI</cp:lastModifiedBy>
  <dcterms:modified xsi:type="dcterms:W3CDTF">2002-09-02T23:38:35Z</dcterms:modified>
  <cp:revision>2</cp:revision>
  <dc:subject/>
  <dc:title>Arrangement of Electrons</dc:title>
</cp:coreProperties>
</file>