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4E71E-868D-4FB0-AAC9-28BDAA28B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A0E68-411D-4A2F-A467-7981961A2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3D615-DAAE-4447-A02F-22BAC8F5C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7AAD5-F363-4D65-A799-FA9AB8015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6CDE0-D9CF-4B33-8C16-6CA9589C1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4D8C7-28A9-4134-945F-A7F025147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A711E-C953-42A2-91E7-46DCE3BBB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63F48-D1DD-4221-A86B-FC82D356D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25F4E-6673-4D84-8812-500BCAA52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C11ED-2B5B-47B7-A236-B9E3FD6BD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8AEC3-0C8B-4B84-845F-18C6CFCF6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C311F-5D91-4DA1-A7AE-2A74FA7D6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9FB6-AE0C-4AB8-802D-E9E8F36401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ical Development of the Periodic Table</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Geneva"/>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ical contributions to Development of Periodic Tabl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enry Moseley </a:t>
            </a:r>
            <a:r>
              <a:rPr b="0" lang="en-US" sz="3200" spc="-1" strike="noStrike">
                <a:solidFill>
                  <a:srgbClr val="000000"/>
                </a:solidFill>
                <a:latin typeface="Times New Roman"/>
                <a:ea typeface="Times New Roman"/>
              </a:rPr>
              <a:t>1913</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sing X‑rays discovered the correct order of the elements in the Periodic Table, later called the atomic number.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James Chadwick </a:t>
            </a:r>
            <a:r>
              <a:rPr b="0" lang="en-US" sz="3200" spc="-1" strike="noStrike">
                <a:solidFill>
                  <a:srgbClr val="000000"/>
                </a:solidFill>
                <a:latin typeface="Times New Roman"/>
                <a:ea typeface="Times New Roman"/>
              </a:rPr>
              <a:t>193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scovered the neutron. Led to explanation for the existence of isotopes and idea of mass number and relative atomic ma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ical contributions to Development of Periodic Tabl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Glenn Seaborg </a:t>
            </a:r>
            <a:r>
              <a:rPr b="0" lang="en-US" sz="3200" spc="-1" strike="noStrike">
                <a:solidFill>
                  <a:srgbClr val="000000"/>
                </a:solidFill>
                <a:latin typeface="Times New Roman"/>
                <a:ea typeface="Times New Roman"/>
              </a:rPr>
              <a:t>1941 onw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tificially produced most of the transuranium elements up to atomic number 109.</a:t>
            </a:r>
            <a:br>
              <a:rPr sz="2800"/>
            </a:br>
            <a:r>
              <a:rPr b="0" lang="en-AU" sz="2800" spc="-1" strike="noStrike">
                <a:solidFill>
                  <a:srgbClr val="000000"/>
                </a:solidFill>
                <a:latin typeface="Genev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Discovery of the Element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particularly the first 36 elements and the halogens; includes period 3 and the first transition ser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ncient Civilisa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 elements were known: C S Fe Cu Ag Sn Au Hg Pb</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lchemists</a:t>
            </a:r>
            <a:r>
              <a:rPr b="0" lang="en-AU" sz="2800" spc="-1" strike="noStrike">
                <a:solidFill>
                  <a:srgbClr val="000000"/>
                </a:solidFill>
                <a:latin typeface="Geneva"/>
                <a:ea typeface="Times New Roman"/>
              </a:rPr>
              <a:t>  </a:t>
            </a:r>
            <a:r>
              <a:rPr b="1" lang="en-US" sz="2800" spc="-1" strike="noStrike">
                <a:solidFill>
                  <a:srgbClr val="000000"/>
                </a:solidFill>
                <a:latin typeface="Times New Roman"/>
                <a:ea typeface="Times New Roman"/>
              </a:rPr>
              <a:t>1400‑1600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other 5 elements were discovered: P Zn As Bi Sb</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Discovery of the Element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700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7 new elements including: H Be N O Cl Ti Cr Mn Co Ni U</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800’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51 new elements including: He Li B F Ne Na Mg A] Si Ar K Ca Sc V Ga Ge Se Br Kr 1</a:t>
            </a:r>
            <a:br>
              <a:rPr sz="2800"/>
            </a:br>
            <a:r>
              <a:rPr b="0" lang="en-US" sz="2800" spc="-1" strike="noStrike">
                <a:solidFill>
                  <a:srgbClr val="000000"/>
                </a:solidFill>
                <a:latin typeface="Times New Roman"/>
                <a:ea typeface="Times New Roman"/>
              </a:rPr>
              <a:t> </a:t>
            </a:r>
            <a:br>
              <a:rPr sz="2800"/>
            </a:br>
            <a:r>
              <a:rPr b="0" lang="en-AU" sz="2800" spc="-1" strike="noStrike">
                <a:solidFill>
                  <a:srgbClr val="000000"/>
                </a:solidFill>
                <a:latin typeface="Genev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Discovery of the Element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900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rest of the naturally occuring elements (10) up to number 92 and the 17 artificially produced elements up to number 109.</a:t>
            </a:r>
            <a:br>
              <a:rPr sz="2800"/>
            </a:br>
            <a:r>
              <a:rPr b="0" lang="en-AU" sz="2800" spc="-1" strike="noStrike">
                <a:solidFill>
                  <a:srgbClr val="000000"/>
                </a:solidFill>
                <a:latin typeface="Genev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Discovery of the Element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the beginning of the nineteenth century, only about 30 elements were know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veral scientists, namely John Dobereiner (1817), John Newlands (1864) and Lothar Meyer (1868) attempted to classify the known elements during the 1900s.</a:t>
            </a:r>
            <a:br>
              <a:rPr sz="3200"/>
            </a:br>
            <a:r>
              <a:rPr b="0" lang="en-AU" sz="3200" spc="-1" strike="noStrike">
                <a:solidFill>
                  <a:srgbClr val="000000"/>
                </a:solidFill>
                <a:latin typeface="Genev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Discovery of the Element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en Dimitri Mendeleev compiled the first Periodic Table in 1869, it contained 63 ele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ccuracy of his predictions is illustrated by the subsequent discovery of elements to fill the gaps he left in his table and by the subsequent discovery of the noble gases by William Rams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Dimitri Mendeleev (1834‑1907)</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First Periodic Tab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ndeleev, a Russian chemist, spent several years collecting, collating and summarising detailed information about the sixty or so known element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1869, he eventually arranged his cards into the first Periodic Table which had the following feat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Geneva"/>
                <a:ea typeface="Times New Roman"/>
              </a:rPr>
              <a:t>Features of the Periodic Table</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elements were arranged in order of </a:t>
            </a:r>
            <a:r>
              <a:rPr b="1" lang="en-US" sz="3200" spc="-1" strike="noStrike">
                <a:solidFill>
                  <a:srgbClr val="000000"/>
                </a:solidFill>
                <a:latin typeface="Times New Roman"/>
                <a:ea typeface="Times New Roman"/>
              </a:rPr>
              <a:t>increasing relative atomic ma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ements with similar chemical properties were put into vertical </a:t>
            </a:r>
            <a:r>
              <a:rPr b="1" lang="en-US" sz="3200" spc="-1" strike="noStrike">
                <a:solidFill>
                  <a:srgbClr val="000000"/>
                </a:solidFill>
                <a:latin typeface="Times New Roman"/>
                <a:ea typeface="Times New Roman"/>
              </a:rPr>
              <a:t>groups</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rizontal rows were called </a:t>
            </a:r>
            <a:r>
              <a:rPr b="1" lang="en-US" sz="3200" spc="-1" strike="noStrike">
                <a:solidFill>
                  <a:srgbClr val="000000"/>
                </a:solidFill>
                <a:latin typeface="Times New Roman"/>
                <a:ea typeface="Times New Roman"/>
              </a:rPr>
              <a:t>perio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aps were left in the table for </a:t>
            </a:r>
            <a:r>
              <a:rPr b="1" lang="en-US" sz="3200" spc="-1" strike="noStrike">
                <a:solidFill>
                  <a:srgbClr val="000000"/>
                </a:solidFill>
                <a:latin typeface="Times New Roman"/>
                <a:ea typeface="Times New Roman"/>
              </a:rPr>
              <a:t>undiscovered ele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Dimitri Mendeleev (1834‑1907)</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ndeleev had realised that the chemical properties of the elements vary periodically with increasing atomic mas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is known as his Periodic Law. Nevertheless he placed greater importance on properties than on atomic mass val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e was able to predict, with great accuracy, the properties of the elements that should fit into the gaps he had lef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ea typeface="Times New Roman"/>
              </a:rPr>
              <a:t>Periodic Table of the Elemen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 an arrangement of the elements according to their properti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enables chemists to classify the elements </a:t>
            </a:r>
            <a:r>
              <a:rPr b="0" i="1" lang="en-US" sz="2800" spc="-1" strike="noStrike">
                <a:solidFill>
                  <a:srgbClr val="000000"/>
                </a:solidFill>
                <a:latin typeface="Times New Roman"/>
                <a:ea typeface="Times New Roman"/>
              </a:rPr>
              <a:t>so </a:t>
            </a:r>
            <a:r>
              <a:rPr b="0" lang="en-US" sz="2800" spc="-1" strike="noStrike">
                <a:solidFill>
                  <a:srgbClr val="000000"/>
                </a:solidFill>
                <a:latin typeface="Times New Roman"/>
                <a:ea typeface="Times New Roman"/>
              </a:rPr>
              <a:t>that it is possible to identify patterns and trends in their properti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ny scientists have made significant contributions to the development of the modern Periodic Table,  </a:t>
            </a:r>
            <a:br>
              <a:rPr sz="2800"/>
            </a:br>
            <a:r>
              <a:rPr b="0" lang="en-AU" sz="2800" spc="-1" strike="noStrike">
                <a:solidFill>
                  <a:srgbClr val="000000"/>
                </a:solidFill>
                <a:latin typeface="Genev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Dimitri Mendeleev (1834‑1907)</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particular, germanium, scandium and gallium were later shown to have very similar properties to those forecast by Mendeleev.</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bsequently in 1914, Henry Moseley's X‑ray data led to the concept of atomic number, which is the number of protons in the nucleus of an ato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was soon shown to be a more fundamental property of atoms than relative atomic ma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Dimitri Mendeleev (1834‑1907)</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It also proved that Mendeleev had been correct to place tellurium (atomic number 52) before iodine (atomic number 53) in spite of iodine's lower relative atomic ma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modem Periodic Table shows the elements organised in order of increasing atomic numb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Dimitri Mendeleev (1834‑1907)</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deas Mendeleev used in the preparation of his Periodic Table were</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vinced the chemical properties of the elements changed in a regular, repeating manner.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ranged the known elements in order of increasing atomic mass so that horizontal rows (periods) were formed.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ements with similar chemical properties were put into vertical columns called groups.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ft gaps in his table if an element with the appropriate chemical properties was not known at the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illiam Ramsay (1852‑1916)</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coverer of the noble gases</a:t>
            </a:r>
            <a:br>
              <a:rPr sz="3200"/>
            </a:br>
            <a:r>
              <a:rPr b="0" i="1" lang="en-US" sz="3200" spc="-1" strike="noStrike">
                <a:solidFill>
                  <a:srgbClr val="000000"/>
                </a:solidFill>
                <a:latin typeface="Times New Roman"/>
                <a:ea typeface="Times New Roman"/>
              </a:rPr>
              <a:t> </a:t>
            </a:r>
            <a:br>
              <a:rPr sz="3200"/>
            </a:br>
            <a:r>
              <a:rPr b="0" i="1" lang="en-AU" sz="3200" spc="-1" strike="noStrike">
                <a:solidFill>
                  <a:srgbClr val="000000"/>
                </a:solidFill>
                <a:latin typeface="Genev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illiam Ramsay (1852‑1916)</a:t>
            </a:r>
            <a:endParaRPr b="0" lang="en-US" sz="4400" spc="-1" strike="noStrike">
              <a:solidFill>
                <a:srgbClr val="000000"/>
              </a:solidFill>
              <a:latin typeface="Times New Roman"/>
            </a:endParaRPr>
          </a:p>
        </p:txBody>
      </p:sp>
      <p:graphicFrame>
        <p:nvGraphicFramePr>
          <p:cNvPr id="88" name=""/>
          <p:cNvGraphicFramePr/>
          <p:nvPr/>
        </p:nvGraphicFramePr>
        <p:xfrm>
          <a:off x="228600" y="2413080"/>
          <a:ext cx="8686800" cy="4064040"/>
        </p:xfrm>
        <a:graphic>
          <a:graphicData uri="http://schemas.openxmlformats.org/drawingml/2006/table">
            <a:tbl>
              <a:tblPr/>
              <a:tblGrid>
                <a:gridCol w="2171880"/>
                <a:gridCol w="2171520"/>
                <a:gridCol w="2171880"/>
                <a:gridCol w="2171520"/>
              </a:tblGrid>
              <a:tr h="581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omic N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bo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ret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iu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N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o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go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l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rypto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dde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X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eno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nge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o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illiam Ramsay (1852‑1916)</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a:t>
            </a:r>
            <a:r>
              <a:rPr b="0" lang="en-AU" sz="3200" spc="-1" strike="noStrike">
                <a:solidFill>
                  <a:srgbClr val="000000"/>
                </a:solidFill>
                <a:latin typeface="Geneva"/>
                <a:ea typeface="Times New Roman"/>
              </a:rPr>
              <a:t>n 1892, a Br</a:t>
            </a:r>
            <a:r>
              <a:rPr b="0" lang="en-US" sz="3200" spc="-1" strike="noStrike">
                <a:solidFill>
                  <a:srgbClr val="000000"/>
                </a:solidFill>
                <a:latin typeface="Times New Roman"/>
                <a:ea typeface="Times New Roman"/>
              </a:rPr>
              <a:t>itish physicist, Lord Rayleigh, compared the density of nitrogen gas obtained from chemical reaction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Geneva"/>
                <a:ea typeface="Times New Roman"/>
              </a:rPr>
              <a:t>He was </a:t>
            </a:r>
            <a:r>
              <a:rPr b="0" lang="en-US" sz="3200" spc="-1" strike="noStrike">
                <a:solidFill>
                  <a:srgbClr val="000000"/>
                </a:solidFill>
                <a:latin typeface="Times New Roman"/>
                <a:ea typeface="Times New Roman"/>
              </a:rPr>
              <a:t>surprised to find that the nitrogen from air was denser than the nitrogen from chemical</a:t>
            </a:r>
            <a:r>
              <a:rPr b="0" lang="en-AU" sz="3200" spc="-1" strike="noStrike">
                <a:solidFill>
                  <a:srgbClr val="000000"/>
                </a:solidFill>
                <a:latin typeface="Geneva"/>
                <a:ea typeface="Times New Roman"/>
              </a:rPr>
              <a:t> </a:t>
            </a:r>
            <a:r>
              <a:rPr b="0" lang="en-US" sz="3200" spc="-1" strike="noStrike">
                <a:solidFill>
                  <a:srgbClr val="000000"/>
                </a:solidFill>
                <a:latin typeface="Times New Roman"/>
                <a:ea typeface="Times New Roman"/>
              </a:rPr>
              <a:t>reactions.</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ne of his assistants, William Ramsay, investigated the matter furth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illiam Ramsay (1852‑1916)</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fter the careful  removal of carbon dioxide, oxygen, water vapour, dust and finally nitroge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amsay</a:t>
            </a:r>
            <a:r>
              <a:rPr b="0" lang="en-AU" sz="3200" spc="-1" strike="noStrike">
                <a:solidFill>
                  <a:srgbClr val="000000"/>
                </a:solidFill>
                <a:latin typeface="Geneva"/>
                <a:ea typeface="Times New Roman"/>
              </a:rPr>
              <a:t> </a:t>
            </a:r>
            <a:r>
              <a:rPr b="0" lang="en-US" sz="3200" spc="-1" strike="noStrike">
                <a:solidFill>
                  <a:srgbClr val="000000"/>
                </a:solidFill>
                <a:latin typeface="Times New Roman"/>
                <a:ea typeface="Times New Roman"/>
              </a:rPr>
              <a:t>examined the emission spectrum of the residual ga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spectrum, consisted of groups of red and green lines , had not been seen before and was therefore a new ele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illiam Ramsay (1852‑1916)</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amsay.</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realised that he had discovered one of a new group of elements that were not reac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new element was given the name </a:t>
            </a:r>
            <a:r>
              <a:rPr b="1" lang="en-US" sz="2800" spc="-1" strike="noStrike">
                <a:solidFill>
                  <a:srgbClr val="000000"/>
                </a:solidFill>
                <a:latin typeface="Times New Roman"/>
                <a:ea typeface="Times New Roman"/>
              </a:rPr>
              <a:t>argon </a:t>
            </a:r>
            <a:r>
              <a:rPr b="0" lang="en-US" sz="2800" spc="-1" strike="noStrike">
                <a:solidFill>
                  <a:srgbClr val="000000"/>
                </a:solidFill>
                <a:latin typeface="Times New Roman"/>
                <a:ea typeface="Times New Roman"/>
              </a:rPr>
              <a:t>(from the Greek, meaning ‘idle’)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He was later able to isolate and identify the other noble gases krypton, neon and</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xenon by the fractional distillation of liquid argon obtained from a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illiam Ramsay (1852‑1916)</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lium had previously been detected as a bright yellow line in the emissi</a:t>
            </a:r>
            <a:r>
              <a:rPr b="0" lang="en-AU" sz="2800" spc="-1" strike="noStrike">
                <a:solidFill>
                  <a:srgbClr val="000000"/>
                </a:solidFill>
                <a:latin typeface="Geneva"/>
                <a:ea typeface="Times New Roman"/>
              </a:rPr>
              <a:t>on spectrum </a:t>
            </a:r>
            <a:r>
              <a:rPr b="0" lang="en-US" sz="2800" spc="-1" strike="noStrike">
                <a:solidFill>
                  <a:srgbClr val="000000"/>
                </a:solidFill>
                <a:latin typeface="Times New Roman"/>
                <a:ea typeface="Times New Roman"/>
              </a:rPr>
              <a:t>of light from the sun during a solar eclipse in 1868.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amsay demonstrated its existence</a:t>
            </a:r>
            <a:r>
              <a:rPr b="0" lang="en-AU" sz="2800" spc="-1" strike="noStrike">
                <a:solidFill>
                  <a:srgbClr val="000000"/>
                </a:solidFill>
                <a:latin typeface="Geneva"/>
                <a:ea typeface="Times New Roman"/>
              </a:rPr>
              <a:t> on Earth by examining</a:t>
            </a:r>
            <a:r>
              <a:rPr b="0" lang="en-US" sz="2800" spc="-1" strike="noStrike">
                <a:solidFill>
                  <a:srgbClr val="000000"/>
                </a:solidFill>
                <a:latin typeface="Times New Roman"/>
                <a:ea typeface="Times New Roman"/>
              </a:rPr>
              <a:t> the spectrum of gas obtained from uranium or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adon, formed by the radioactive decay of radium, was discovered by Friedrich Dorn in 1900.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amsay determined its relative atomic ma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ignificance of Ramsay’s Work</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gon, first of the noble gases to be discovered.appeared to be totally unreactiv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s identification lead Ramsay to suggest this new gas was part of a new group of elements with zero valency coming after Group VI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ther members of the the new group VIII were subsequently isolated and identifi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ical contributions to Development of Periodic Tabl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reek philosophers 400 B. C.</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istotle discussed the existence of four 'basic elements' earth, air, fire and water</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chemists</a:t>
            </a:r>
            <a:r>
              <a:rPr b="0" lang="en-AU" sz="3200" spc="-1" strike="noStrike">
                <a:solidFill>
                  <a:srgbClr val="000000"/>
                </a:solidFill>
                <a:latin typeface="Geneva"/>
                <a:ea typeface="Times New Roman"/>
              </a:rPr>
              <a:t> </a:t>
            </a:r>
            <a:r>
              <a:rPr b="0" lang="en-US" sz="3200" spc="-1" strike="noStrike">
                <a:solidFill>
                  <a:srgbClr val="000000"/>
                </a:solidFill>
                <a:latin typeface="Times New Roman"/>
                <a:ea typeface="Times New Roman"/>
              </a:rPr>
              <a:t>1600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ied to convert known common metals (especially lead) into gol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obert Boyle1661</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rst defined an element as a simple subst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ical Development of Modern Atomic Theory</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ndeleev's work inspired others not only to search for undiscovered elements but also to investigate the nature of matter itself</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ndeleev arranged the elements in order of increasing atomic mas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values he used for relative atomic masses were based on those estimated by John Dalton in the early part of the eighteenth centu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ical Development of Modern Atomic Theory</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alton had also revived the ancient Greek idea concerning the particulate or atomic nature of matter in 180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discovery of the electron by  John Joseph Thomson in 1897 and his plum pudding model of the atom led the way to further investigations by Ernest Rutherford during the years from 1902 to 192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ical Development of Modern Atomic Theory</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ther discoveries enabled the nuclear atom model proposed by Rutherford to be further modified and refined into the shell model of Niels Bohr and eventually into the modern day quantum mechanical model of Erwin Schrodinger and Werner Heisenber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time‑line of these ideas and discoveries is shown bel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ical development of theories</a:t>
            </a:r>
            <a:r>
              <a:rPr b="0" lang="en-AU" sz="4400" spc="-1" strike="noStrike">
                <a:solidFill>
                  <a:srgbClr val="000000"/>
                </a:solidFill>
                <a:latin typeface="Geneva"/>
                <a:ea typeface="Times New Roman"/>
              </a:rPr>
              <a:t> </a:t>
            </a:r>
            <a:r>
              <a:rPr b="0" lang="en-US" sz="4400" spc="-1" strike="noStrike">
                <a:solidFill>
                  <a:srgbClr val="000000"/>
                </a:solidFill>
                <a:latin typeface="Times New Roman"/>
                <a:ea typeface="Times New Roman"/>
              </a:rPr>
              <a:t>of atomic structure</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Greek Philosophers 300‑400 BC</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mocritus and Epicurus first explored the idea that matter was made up of atom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istotle disagreed. He argued that matter is continuous and made up of the four basic elements 'earth, air, fire</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and water'.</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John Dalton 1808</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introduced idea of indivisible atoms in his 'atomic the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ical development of theories</a:t>
            </a:r>
            <a:r>
              <a:rPr b="0" lang="en-AU" sz="4400" spc="-1" strike="noStrike">
                <a:solidFill>
                  <a:srgbClr val="000000"/>
                </a:solidFill>
                <a:latin typeface="Geneva"/>
                <a:ea typeface="Times New Roman"/>
              </a:rPr>
              <a:t> </a:t>
            </a:r>
            <a:r>
              <a:rPr b="0" lang="en-US" sz="4400" spc="-1" strike="noStrike">
                <a:solidFill>
                  <a:srgbClr val="000000"/>
                </a:solidFill>
                <a:latin typeface="Times New Roman"/>
                <a:ea typeface="Times New Roman"/>
              </a:rPr>
              <a:t>of atomic structure</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John J. Thomson</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dentified the electron as a negative particle. Concluded that all</a:t>
            </a:r>
            <a:br>
              <a:rPr sz="2800"/>
            </a:br>
            <a:r>
              <a:rPr b="1" lang="en-US" sz="2800" spc="-1" strike="noStrike">
                <a:solidFill>
                  <a:srgbClr val="000000"/>
                </a:solidFill>
                <a:latin typeface="Times New Roman"/>
                <a:ea typeface="Times New Roman"/>
              </a:rPr>
              <a:t>1897‑189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oms contain electrons. Proposed the 'plum pudding' model.</a:t>
            </a:r>
            <a:br>
              <a:rPr sz="2800"/>
            </a:br>
            <a:r>
              <a:rPr b="1" lang="en-US" sz="2800" spc="-1" strike="noStrike">
                <a:solidFill>
                  <a:srgbClr val="000000"/>
                </a:solidFill>
                <a:latin typeface="Times New Roman"/>
                <a:ea typeface="Times New Roman"/>
              </a:rPr>
              <a:t>Ernest Rutherfor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posed model of atom with central positively charged nucleus</a:t>
            </a:r>
            <a:br>
              <a:rPr sz="2800"/>
            </a:br>
            <a:r>
              <a:rPr b="1" lang="en-US" sz="2800" spc="-1" strike="noStrike">
                <a:solidFill>
                  <a:srgbClr val="000000"/>
                </a:solidFill>
                <a:latin typeface="Times New Roman"/>
                <a:ea typeface="Times New Roman"/>
              </a:rPr>
              <a:t>1902‑192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rrounded by negative electrons. Proposed eMistence of proton and</a:t>
            </a:r>
            <a:br>
              <a:rPr sz="2800"/>
            </a:b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edicted existence of neutron.</a:t>
            </a:r>
            <a:br>
              <a:rPr sz="2800"/>
            </a:br>
            <a:r>
              <a:rPr b="0" lang="en-AU" sz="2800" spc="-1" strike="noStrike">
                <a:solidFill>
                  <a:srgbClr val="000000"/>
                </a:solidFill>
                <a:latin typeface="Geneva"/>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ical development of theories</a:t>
            </a:r>
            <a:r>
              <a:rPr b="0" lang="en-AU" sz="4400" spc="-1" strike="noStrike">
                <a:solidFill>
                  <a:srgbClr val="000000"/>
                </a:solidFill>
                <a:latin typeface="Geneva"/>
                <a:ea typeface="Times New Roman"/>
              </a:rPr>
              <a:t> </a:t>
            </a:r>
            <a:r>
              <a:rPr b="0" lang="en-US" sz="4400" spc="-1" strike="noStrike">
                <a:solidFill>
                  <a:srgbClr val="000000"/>
                </a:solidFill>
                <a:latin typeface="Times New Roman"/>
                <a:ea typeface="Times New Roman"/>
              </a:rPr>
              <a:t>of atomic structur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enry Moseley</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1913</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roduced concept of atomic number based on the positive</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charge of the nucle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ter shown to equal the number of prot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iels Bohr 1913 </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posed existence of electron orbits (shells or energy levels)</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around the nucleus of the atom.</a:t>
            </a:r>
            <a:r>
              <a:rPr b="0" i="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ical development of theories</a:t>
            </a:r>
            <a:r>
              <a:rPr b="0" lang="en-AU" sz="4400" spc="-1" strike="noStrike">
                <a:solidFill>
                  <a:srgbClr val="000000"/>
                </a:solidFill>
                <a:latin typeface="Geneva"/>
                <a:ea typeface="Times New Roman"/>
              </a:rPr>
              <a:t> </a:t>
            </a:r>
            <a:r>
              <a:rPr b="0" lang="en-US" sz="4400" spc="-1" strike="noStrike">
                <a:solidFill>
                  <a:srgbClr val="000000"/>
                </a:solidFill>
                <a:latin typeface="Times New Roman"/>
                <a:ea typeface="Times New Roman"/>
              </a:rPr>
              <a:t>of atomic structure</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rederick Soddy 1914</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vestigated origin and nature of isotop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rancis Aston 1919</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ved that several common stable elements consist of isotopes using his invention ‑ the mass spectromet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olfgang Pauli 1925</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posed his 'Exclusion Principle' to explain the distribution of electrons in energy levels around the nucle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ical development of theories</a:t>
            </a:r>
            <a:r>
              <a:rPr b="0" lang="en-AU" sz="4400" spc="-1" strike="noStrike">
                <a:solidFill>
                  <a:srgbClr val="000000"/>
                </a:solidFill>
                <a:latin typeface="Geneva"/>
                <a:ea typeface="Times New Roman"/>
              </a:rPr>
              <a:t> </a:t>
            </a:r>
            <a:r>
              <a:rPr b="0" lang="en-US" sz="4400" spc="-1" strike="noStrike">
                <a:solidFill>
                  <a:srgbClr val="000000"/>
                </a:solidFill>
                <a:latin typeface="Times New Roman"/>
                <a:ea typeface="Times New Roman"/>
              </a:rPr>
              <a:t>of atomic structur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rwin Schrodinger 1926</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idered the electron as a wave and worked out a mathematical description of its motion called quantum mechanic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emer Heisenberg 1932</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duced a mathematical description of energy levels for electr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ut forward his 'Uncertainty Principle' ‑ it is impossible to know </a:t>
            </a:r>
            <a:r>
              <a:rPr b="0" i="1" lang="en-US" sz="2400" spc="-1" strike="noStrike">
                <a:solidFill>
                  <a:srgbClr val="000000"/>
                </a:solidFill>
                <a:latin typeface="Times New Roman"/>
                <a:ea typeface="Times New Roman"/>
              </a:rPr>
              <a:t>both </a:t>
            </a:r>
            <a:r>
              <a:rPr b="0" lang="en-US" sz="2400" spc="-1" strike="noStrike">
                <a:solidFill>
                  <a:srgbClr val="000000"/>
                </a:solidFill>
                <a:latin typeface="Times New Roman"/>
                <a:ea typeface="Times New Roman"/>
              </a:rPr>
              <a:t>the position and the velocity of an electron in an atom simultaneous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ical development of theories</a:t>
            </a:r>
            <a:r>
              <a:rPr b="0" lang="en-AU" sz="4400" spc="-1" strike="noStrike">
                <a:solidFill>
                  <a:srgbClr val="000000"/>
                </a:solidFill>
                <a:latin typeface="Geneva"/>
                <a:ea typeface="Times New Roman"/>
              </a:rPr>
              <a:t> </a:t>
            </a:r>
            <a:r>
              <a:rPr b="0" lang="en-US" sz="4400" spc="-1" strike="noStrike">
                <a:solidFill>
                  <a:srgbClr val="000000"/>
                </a:solidFill>
                <a:latin typeface="Times New Roman"/>
                <a:ea typeface="Times New Roman"/>
              </a:rPr>
              <a:t>of atomic structure</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James Chadwick </a:t>
            </a:r>
            <a:r>
              <a:rPr b="0" lang="en-US" sz="3200" spc="-1" strike="noStrike">
                <a:solidFill>
                  <a:srgbClr val="000000"/>
                </a:solidFill>
                <a:latin typeface="Times New Roman"/>
                <a:ea typeface="Times New Roman"/>
              </a:rPr>
              <a:t>1932</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scovered the neutron ‑ led to explanation for the existence of isotopes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Lise Meitn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rst to suggest the idea of nuclear fission (previously observed by Marie Curie in 1898).</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Glenn Seaborg 1941</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duced most of the transuranium ele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ical contributions to Development of Periodic Tabl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Joseph Priestley</a:t>
            </a:r>
            <a:r>
              <a:rPr b="0" lang="en-AU" sz="3200" spc="-1" strike="noStrike">
                <a:solidFill>
                  <a:srgbClr val="000000"/>
                </a:solidFill>
                <a:latin typeface="Geneva"/>
                <a:ea typeface="Times New Roman"/>
              </a:rPr>
              <a:t> </a:t>
            </a:r>
            <a:r>
              <a:rPr b="0" lang="en-US" sz="3200" spc="-1" strike="noStrike">
                <a:solidFill>
                  <a:srgbClr val="000000"/>
                </a:solidFill>
                <a:latin typeface="Times New Roman"/>
                <a:ea typeface="Times New Roman"/>
              </a:rPr>
              <a:t>1774</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olated oxygen ga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toine Lavoisier 1774</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plained combustion as reaction with oxygen from the ai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veloped the Law of Conservation of Mass. Produced a table of</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33 ele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ical contributions to Development of Periodic Tabl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umphrey Davy</a:t>
            </a:r>
            <a:r>
              <a:rPr b="0" lang="en-AU" sz="3200" spc="-1" strike="noStrike">
                <a:solidFill>
                  <a:srgbClr val="000000"/>
                </a:solidFill>
                <a:latin typeface="Geneva"/>
                <a:ea typeface="Times New Roman"/>
              </a:rPr>
              <a:t> </a:t>
            </a:r>
            <a:r>
              <a:rPr b="0" lang="en-US" sz="3200" spc="-1" strike="noStrike">
                <a:solidFill>
                  <a:srgbClr val="000000"/>
                </a:solidFill>
                <a:latin typeface="Times New Roman"/>
                <a:ea typeface="Times New Roman"/>
              </a:rPr>
              <a:t>1807</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olated sodium, potassium, barium, calcium strontium, magnesium and boron. Identified iodine and aluminium as ele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John Dalton 1808</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introduced idea of atoms. Estimated relative atomic m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ical contributions to Development of Periodic Tabl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Johann Doberliner 1817 </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ntified 'triads' of elements based on their properties and relative</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atomic mass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Jons Berzelius 1828</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lculated accurate values for relative atomic masses for many elements. Introduced letters as symbols for the ele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ical contributions to Development of Periodic Table</a:t>
            </a:r>
            <a:r>
              <a:rPr b="0" lang="en-AU" sz="4400" spc="-1" strike="noStrike">
                <a:solidFill>
                  <a:srgbClr val="000000"/>
                </a:solidFill>
                <a:latin typeface="Geneva"/>
                <a:ea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anislao Cannizzaro</a:t>
            </a:r>
            <a:r>
              <a:rPr b="0" lang="en-US" sz="2800" spc="-1" strike="noStrike">
                <a:solidFill>
                  <a:srgbClr val="000000"/>
                </a:solidFill>
                <a:latin typeface="Times New Roman"/>
                <a:ea typeface="Times New Roman"/>
              </a:rPr>
              <a:t> 1860</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the Karlsruhe Congress, distinguished between atoms and</a:t>
            </a:r>
            <a:r>
              <a:rPr b="0" lang="en-AU" sz="2400" spc="-1" strike="noStrike">
                <a:solidFill>
                  <a:srgbClr val="000000"/>
                </a:solidFill>
                <a:latin typeface="Geneva"/>
                <a:ea typeface="Times New Roman"/>
              </a:rPr>
              <a:t> </a:t>
            </a:r>
            <a:r>
              <a:rPr b="0" lang="en-US" sz="2400" spc="-1" strike="noStrike">
                <a:solidFill>
                  <a:srgbClr val="000000"/>
                </a:solidFill>
                <a:latin typeface="Times New Roman"/>
                <a:ea typeface="Times New Roman"/>
              </a:rPr>
              <a:t>molecules and defined valence.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rrors in relative atomic mass</a:t>
            </a:r>
            <a:r>
              <a:rPr b="0" lang="en-AU" sz="2400" spc="-1" strike="noStrike">
                <a:solidFill>
                  <a:srgbClr val="000000"/>
                </a:solidFill>
                <a:latin typeface="Geneva"/>
                <a:ea typeface="Times New Roman"/>
              </a:rPr>
              <a:t> </a:t>
            </a:r>
            <a:r>
              <a:rPr b="0" lang="en-US" sz="2400" spc="-1" strike="noStrike">
                <a:solidFill>
                  <a:srgbClr val="000000"/>
                </a:solidFill>
                <a:latin typeface="Times New Roman"/>
                <a:ea typeface="Times New Roman"/>
              </a:rPr>
              <a:t>calculations were remed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John Newlands </a:t>
            </a:r>
            <a:r>
              <a:rPr b="0" lang="en-US" sz="2800" spc="-1" strike="noStrike">
                <a:solidFill>
                  <a:srgbClr val="000000"/>
                </a:solidFill>
                <a:latin typeface="Times New Roman"/>
                <a:ea typeface="Times New Roman"/>
              </a:rPr>
              <a:t>1864</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ranged known elements in whole number order. Proposed 'Law of Octaves' ‑ periodic variation of properties with relative atomic m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ical contributions to Development of Periodic Table</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othar Meyer </a:t>
            </a:r>
            <a:r>
              <a:rPr b="0" lang="en-US" sz="2800" spc="-1" strike="noStrike">
                <a:solidFill>
                  <a:srgbClr val="000000"/>
                </a:solidFill>
                <a:latin typeface="Times New Roman"/>
                <a:ea typeface="Times New Roman"/>
              </a:rPr>
              <a:t>1868</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assified the elements in a systematic table which demonstrated the periodic nature of their properti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imitri Mendeleev </a:t>
            </a:r>
            <a:r>
              <a:rPr b="0" lang="en-US" sz="2800" spc="-1" strike="noStrike">
                <a:solidFill>
                  <a:srgbClr val="000000"/>
                </a:solidFill>
                <a:latin typeface="Times New Roman"/>
                <a:ea typeface="Times New Roman"/>
              </a:rPr>
              <a:t>1869</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t forward the periodic law.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ranged known elements according to relative atomic mass and properties into vertical 4 groups' and horizontal 'period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ft gaps and predicted properties of undiscovered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ical contributions to Development of Periodic Table</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illiam Ramsay </a:t>
            </a:r>
            <a:r>
              <a:rPr b="0" lang="en-US" sz="3200" spc="-1" strike="noStrike">
                <a:solidFill>
                  <a:srgbClr val="000000"/>
                </a:solidFill>
                <a:latin typeface="Times New Roman"/>
                <a:ea typeface="Times New Roman"/>
              </a:rPr>
              <a:t>1892</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scovered the noble gase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cognised them as a new group of elements for the Periodic Table with zero valency.</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rie Curie </a:t>
            </a:r>
            <a:r>
              <a:rPr b="0" lang="en-US" sz="3200" spc="-1" strike="noStrike">
                <a:solidFill>
                  <a:srgbClr val="000000"/>
                </a:solidFill>
                <a:latin typeface="Times New Roman"/>
                <a:ea typeface="Times New Roman"/>
              </a:rPr>
              <a:t>1898</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vestigated radioactivity of uranium.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olated polonium and radiu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9T22:40:13Z</dcterms:created>
  <dc:creator>Stephen Fitzpatrick</dc:creator>
  <dc:description/>
  <dc:language>en-US</dc:language>
  <cp:lastModifiedBy>Stephen Fitzpatrick</cp:lastModifiedBy>
  <dcterms:modified xsi:type="dcterms:W3CDTF">2001-10-29T22:40:30Z</dcterms:modified>
  <cp:revision>1</cp:revision>
  <dc:subject/>
  <dc:title>Historical Development of the Periodic Table</dc:title>
</cp:coreProperties>
</file>